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C0A-4C00-42DD-91ED-10642E47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27B-D96D-47E8-8238-5C312F85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E3D-B84E-454F-9C4B-D7ED9745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213-6386-4158-9890-1504FDF0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B95-58A7-46A0-A5D2-C4F5752A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14B-04CD-4D2F-8F5B-74AAF96F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993-B778-488D-AAC6-ABDA4973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5359-06BC-40EB-A51F-88943797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378-0B0D-4C35-84AE-0D6846DF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E2D-F44A-4B83-BC24-AB207DFA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458-02CB-488F-877F-4F421F2B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3593-4150-40CA-8C28-05BF4F6D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3C2A-2C37-48AC-8945-0F9E21DB8C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www.zoofirma.ru//plugins/content/relatedThumbArticles/timthumb.php?src=images/knigi/0994/035.jpg&amp;w=300&amp;h=200&amp;zc=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ОСТАВ И СТРУКТУРА СООБЩЕСТ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2276640"/>
            <a:ext cx="5040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 обитающих в сообществе видов и соотношение их численности определяе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овую структуру сообществ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довой состав сообщества определяется рядом факторов: географическое местоположение, особенности климата и рельефа местности, высота над уровнем моря, водный режим, возраст сообщества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ОВА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УКТУРА СО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62415" t="24538" r="15295" b="44664"/>
          <a:stretch/>
        </p:blipFill>
        <p:spPr>
          <a:xfrm>
            <a:off x="5292720" y="2205000"/>
            <a:ext cx="3673440" cy="317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7848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пределенные типы внешнего строения организмов, возникшие как приспособления к условиям местообитания, называю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зненными формам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бор жизненных форм, их соотношение определяю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рфологическую структур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ообщества, по которой судят о его принадлежности к тому или иному тип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РФОЛОГИЧЕСКА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УКТУРА СО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27_06" descr="http://rusanova.nm.ru/tablica/27_06.jpg"/>
          <p:cNvPicPr/>
          <p:nvPr/>
        </p:nvPicPr>
        <p:blipFill>
          <a:blip r:embed="rId2"/>
          <a:srcRect l="2579" t="26468" r="3208" b="5167"/>
          <a:stretch/>
        </p:blipFill>
        <p:spPr>
          <a:xfrm>
            <a:off x="3795840" y="4132440"/>
            <a:ext cx="5348160" cy="272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2852640"/>
            <a:ext cx="4537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личные жизненные формы определенным образом пространственно обособлены друг от друга, образу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транственную структур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ообщ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СТРАНСТВЕННА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УКТУРА СО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50799" t="28852" r="23002" b="40351"/>
          <a:stretch/>
        </p:blipFill>
        <p:spPr>
          <a:xfrm>
            <a:off x="4859280" y="2133720"/>
            <a:ext cx="3889440" cy="3506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0:17:08Z</dcterms:created>
  <dc:creator>Катенок</dc:creator>
  <dc:description/>
  <dc:language>en-US</dc:language>
  <cp:lastModifiedBy>Admin</cp:lastModifiedBy>
  <dcterms:modified xsi:type="dcterms:W3CDTF">2013-03-04T16:24:44Z</dcterms:modified>
  <cp:revision>35</cp:revision>
  <dc:subject/>
  <dc:title>Презентация PowerPoint</dc:title>
</cp:coreProperties>
</file>